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4A1-3B60-44E2-B907-020978FE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8BA-367B-4AA4-A7A9-654692F4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43B-9268-4464-9CFA-B993EFF5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63C-CB01-4BB8-98E6-296849F5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B77-564F-4CAA-B2A1-8785C087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DCF-43C7-4F3F-A948-7FB689CD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2C8-529C-42A6-B74A-96110A9D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E72-DCBE-42C5-BC84-2F29F46E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345-5DCE-4386-8A61-0C579304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E29-C83A-449B-B4F2-F7A613A5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384-9451-4618-9797-8465B009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469-D51B-40A1-86A3-CE97BDE7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76121-9966-4B5C-A39A-81D963E8F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1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1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2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2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3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3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4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4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5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5%20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6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6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0:01:07Z</dcterms:created>
  <dc:creator/>
  <dc:description/>
  <dc:language>en-US</dc:language>
  <cp:lastModifiedBy/>
  <dcterms:modified xsi:type="dcterms:W3CDTF">2014-03-22T10:34:14Z</dcterms:modified>
  <cp:revision>14</cp:revision>
  <dc:subject/>
  <dc:title/>
</cp:coreProperties>
</file>